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wmf" ContentType="image/x-wmf"/>
  <Override PartName="/ppt/media/image15.png" ContentType="image/pn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3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3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F557-64C4-4153-B8EE-407D3F9FF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437F-018F-452F-87EC-F31E24E71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FE7E-BF99-408F-936A-13CCDAB62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F79B-00C3-4366-984B-C3AE78A1D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0769-64E6-4F39-96E4-8421DC043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086254-133E-4405-B712-AD5F41E7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AAAF98-3DE0-4B23-93DC-FD5306EA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95BDB0-A6C8-4B04-808E-DC119A8A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CDFA13-728B-43A1-8460-036780C2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D71CC5-FFB7-48FA-AA67-855EA8D0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B17201-4F3D-4010-9E5D-72014548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0BEA21-638A-4574-89F1-0D75E360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9EF6F7-7821-4539-9E0D-3F761B54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188AAD-BC82-4167-923B-EF787B12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3C6AB-2650-464A-8144-97BCFB11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CEC2D-5FAB-44DF-8115-FD40678F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BD784-A316-4B2C-AF90-E4BFAA1A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6A6AC-F9DA-4F26-A5A2-5B4153B6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2AEDF-2CE3-4D26-B031-CF3BBD57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106E4-2BAC-4204-8BC9-22DDE01F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B3C1C-2A61-4851-A6E6-009F321D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827E0-2A54-43D1-AD77-EC298818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51B31-BFB7-4B18-97A4-8E247D70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5F4FF-75A2-471E-952D-2DCCB542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703C01-1FC1-4DF3-924F-25055F0D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8C5E51-FF54-4EF5-91A5-249674E5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868CBD-07CE-45C0-A627-AF3DDFBA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B5E48A-87A6-4331-A62A-FDC7FDB7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CF88A0-D7F3-4526-9256-55351CF4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E9F150-1EC7-4AC1-A6A4-17BB83FC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3A2E96-CEEF-4B2E-8985-42094684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49FC28-3DA1-467E-A9E2-6A312CB4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177778-6487-490D-86CD-7C4F2F39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85CFDA-AD71-4D26-B289-B5D31E67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FCD29A-5F87-40B3-98F4-7AF8A99A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1A4FD-2F0B-4286-A4B5-C7E1E4E7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7F4EB5-EB04-471E-B34E-AE5A63BF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681299-F6B2-4787-B480-5F98D33C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C90119-CD9D-4A17-B6A2-3A71F0FC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AAB1EA-B471-4BED-A16F-056D849C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B9BB5B-3B6D-42F3-BE8E-5635D031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8A6ACD-7B72-4E6B-9486-315BC943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3E54A3-2F72-408F-9EDF-1BFBD774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ED2F7C-0B04-4850-AF1D-232E9A19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20B604-17A3-435F-90F2-F88A5534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8B2ACC-2C95-49A6-AFD1-033FDC7A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66CFE-CE59-4232-A89A-C675FFDC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157E38-8815-4415-86C5-4B8CC097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A0E0BD-F578-42D6-BCBA-3C76DDA9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C57CBB-8C76-4616-85F3-C171BB22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E7E540-AFD7-4E67-A2F9-CEFF06E9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18DF56-6C43-4CF1-97CE-32D192E2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0EAB5-6EAF-40CF-B124-B5947A0F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A8F56-1CE1-469B-A10B-3C8C86E8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F7448-DAE8-4715-B1E7-217F8C27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3DECE-B2CE-4B54-B700-3FFA0D5F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5E8EB-A47A-43E9-87F1-EB3E150A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C9D8E-02BA-42F5-8A37-B2DBE0D9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27950-5360-47CC-81B2-45EBC956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D9382-0651-47F4-A9E1-9FF604E4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F9317-0EB8-4AC7-9CFB-29D20301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3C5EB-9903-495C-B8CD-13B723D0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3A788-9653-499E-9527-2AAE07AF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FCADE-2F3E-47E6-ACEA-7FBDD17F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82365-C064-48C2-92EA-B2838352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D6DE5-ED81-4327-9DB7-E05929E2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C92F4-DE90-4AF8-9EE0-4F827FB9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51FC1-6DC4-4E3B-8873-2A68BB57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536E8-D0AD-4F90-83C5-1AF11F0C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F744A-C5E4-4503-A321-C18871C3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9BAA2-F6C3-4B4F-82CC-DA1FF2C6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F48D0-87F9-49B8-AC24-A1664FEC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789C0-47C1-4862-862F-6824C955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697E0-6C06-4A00-B410-9D0F3C0E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43B16C-73BE-4FF4-B3A7-BEE8C74B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B94837-9C97-4EC7-B17E-DEBF90B8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B05A3B-A68E-4EC2-97F2-BDEF1F74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759AB-B0C2-4B95-AE1E-746FB0FD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9EE317-79B4-469E-99DF-C0DC0D12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E64D76-7CC7-4FD9-AB36-7E31FBF5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732E0A-83B0-4024-8078-C572D5C3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F5FB1-6D1C-4A45-80CA-B11A5A09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97AD0E-8BC0-4374-95A3-31B80BF5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A4E02F-EA1B-4AA9-90D6-5A2E4A30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2D67B1-07D3-4F8A-8E6A-7280D219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E180DA-EC50-4937-B5B7-BFC1F434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9B8925-4C3D-4817-909C-5518D723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0D5ABC-4151-4C7D-A4D7-C219F5A2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E5841-4AB8-44BC-881F-6DCAF388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3F469-585F-4FF6-A824-5FA4D670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A5BAF-C283-4331-A94C-0C8C51A8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AD1E7-FB34-44C7-8AF1-AB067CC9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278FDD-5CC0-4EC5-8810-CFA97D3B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1AEC2A-EBE2-4D4C-B314-3A6FC44D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2CA90-AA1A-4D8E-B4BC-06EB5DDD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474909-7DDD-4C95-8BDE-7EFB6397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7D280-9570-4294-99D5-D344ED4E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27AFB-257B-4F9C-B7C3-DB09714A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420CBD-5815-415C-918E-F1E69A7C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5B13E2-545E-4A36-9D97-883EF282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B3C86A-B0C4-4D2D-AD0D-3D794C9C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AA609-F0E6-4D9F-A71E-705DEA4B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54E02E-9CAF-4A2F-A37B-F7CD9B16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B3C09-601F-4970-B651-801401CA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DC827-329E-4B60-863E-73AF75F9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7035D-5227-4542-8ED9-2CA1B87C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86181-AACF-4F28-983C-A6ACF561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19EE1-9D66-45EF-A6C2-45D49039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DE73E1-A290-4030-BBE7-51ED6B1D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51237E-8F6B-4129-95DD-264C8C65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227CA8-2E6F-4BEC-BF4F-30F13730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1E25B9-48BF-4631-89F4-99E2189A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EC6143-E960-4DE0-9501-9F65D3E7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26842F-77D6-4A17-A7BD-46630B8B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45F71B-BEE3-42EC-AB02-2C87454A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087BA6-080E-42D3-8852-EDA4C0CD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EEBF67-0E4F-4181-96ED-D5F34A5F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E3824-6504-4C4E-BA20-5FF7C544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866163-DC93-433A-B23B-BE7AF036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471D7E-E48F-4311-A7F8-BC64A779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7E7707-A521-4135-9578-E256A0B1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78395-AB69-40C9-9043-A0024926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984AFB-A483-47BB-8021-FF077F0D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AA303D-9B77-4076-876E-76F5CC98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677A55-29D9-435B-8A07-530E8EC1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1CD0F2-2BF3-410B-823B-6977D0AF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A87379-5DCB-4609-B329-F2FA9645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CBC59B-6ACD-4636-9235-F5537F9C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54198A-4C37-46B5-9004-A75A0959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635061-CFCB-4682-A764-C977A3CD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6B1C4A-B56F-4FF8-9FE3-E11C7F2C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DFFE8A-91A5-48A8-B308-8C4C656C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7BE7D1-806F-4948-B034-F4F714BA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02AF0A-8647-4635-B9C7-30C68B38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42245C-F521-4CFB-AB23-DE3C0450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112619-1BED-4859-89E5-9DAFCF9D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294C69-677C-49F8-8B5D-810679AA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A615-0547-4D31-9FFE-881CD67F358B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E050-132C-4D91-B267-EAA5498B68A1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37CC-4B76-48DC-897C-131E5B0DD7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2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A384-8411-4F8C-AFC2-45CFCC138F82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2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AA74-BB36-4AB8-B10B-14A17A362F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E3A9-A735-40CB-B545-C27EE569CDEF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26DE-6C53-46DA-8E43-8888F846D5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07BC-FFB4-4710-94D2-9D4382E22891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A3BE-DF3A-417D-8A40-55B1A2D354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C1AC-D370-4D78-86EE-968C7EF7C6EA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AB9F-F137-4F26-9FD2-49EBE893E14E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36D5-A216-4F30-908C-9A02DD47C4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FD80-39A4-429F-A098-E27C588C12D0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4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0013-CE63-4842-9839-950BEB525F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42E3-15AF-40C4-96ED-A77879F27152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21A4-8D60-4E3B-BFC9-F692B66444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79CE-1032-475A-9582-6A2B7C62F275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BE20-CAD9-47A6-A3E2-DD7AD6C9D5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7DC6-BBA6-4ED3-BAAE-9ED1957E29FF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3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4BD9-BAD8-4A19-8741-5F0B67DC60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E5A7-4FF4-4FE4-B382-7CDBE6F7AFF8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6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F9F7-0B70-45E7-B3A3-09438A09CD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905120"/>
            <a:ext cx="754380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3232"/>
                </a:solidFill>
                <a:latin typeface="Cambria"/>
              </a:rPr>
              <a:t>Year 1 Overview</a:t>
            </a:r>
            <a:endParaRPr b="0" lang="en-US" sz="48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I. Hoeschle-Zeledon</a:t>
            </a:r>
            <a:br>
              <a:rPr sz="2400"/>
            </a:b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Africa RISING East/Southern Africa Coo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ubtitle 2"/>
          <p:cNvSpPr/>
          <p:nvPr/>
        </p:nvSpPr>
        <p:spPr>
          <a:xfrm>
            <a:off x="3048120" y="1143000"/>
            <a:ext cx="531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earch Review &amp; Planning Meet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frica RIS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-5 October 2012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Communication Strategy and Tools </a:t>
            </a:r>
            <a:r>
              <a:rPr b="0" lang="en-GB" sz="2000" spc="-1" strike="noStrike">
                <a:solidFill>
                  <a:srgbClr val="bfbfbf"/>
                </a:solidFill>
                <a:latin typeface="Cambria"/>
              </a:rPr>
              <a:t>(ILRI leadership)</a:t>
            </a:r>
            <a:br>
              <a:rPr sz="20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	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wiki , website, repositories for docs, images, presentations </a:t>
            </a:r>
            <a:br>
              <a:rPr sz="1800"/>
            </a:br>
            <a:br>
              <a:rPr sz="1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M&amp;E Plan </a:t>
            </a:r>
            <a:r>
              <a:rPr b="0" lang="en-GB" sz="2000" spc="-1" strike="noStrike">
                <a:solidFill>
                  <a:srgbClr val="323232"/>
                </a:solidFill>
                <a:latin typeface="Cambria"/>
              </a:rPr>
              <a:t>(IFPRI leadership)</a:t>
            </a:r>
            <a:br>
              <a:rPr sz="1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Program Logframe</a:t>
            </a:r>
            <a:br>
              <a:rPr sz="2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Program Document</a:t>
            </a:r>
            <a:r>
              <a:rPr b="0" lang="en-GB" sz="2400" spc="-1" strike="noStrike">
                <a:solidFill>
                  <a:srgbClr val="323232"/>
                </a:solidFill>
                <a:latin typeface="Cambria"/>
              </a:rPr>
              <a:t>:  assembly of  all strategic documents</a:t>
            </a:r>
            <a:endParaRPr b="0" lang="en-US" sz="24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6" name="TextBox 3"/>
          <p:cNvSpPr/>
          <p:nvPr/>
        </p:nvSpPr>
        <p:spPr>
          <a:xfrm>
            <a:off x="1066680" y="3657600"/>
            <a:ext cx="469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rpose, objectives , outcom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uiding principles and conceptual framewo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earch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og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&amp;E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munic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nagement structure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600" spc="-1" strike="noStrike">
                <a:solidFill>
                  <a:srgbClr val="323232"/>
                </a:solidFill>
                <a:latin typeface="Cambria"/>
              </a:rPr>
              <a:t>Program Management Structure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553716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828800" y="12189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Project Coordination Committee (PCC)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0" name="TextBox 3"/>
          <p:cNvSpPr/>
          <p:nvPr/>
        </p:nvSpPr>
        <p:spPr>
          <a:xfrm>
            <a:off x="2057400" y="3200400"/>
            <a:ext cx="586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533520" y="937080"/>
            <a:ext cx="7467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des advice and coordination on Project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des science guidance to Project implemen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Guides Project planning and all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dvises on annual Project workplan and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versees coordination between Project components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iaises with IST to oversee M&amp;E; cc PCT on all repor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Keeps PCT informed of activities via the Project Coordin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views and makes suggestions to Project Coordinator 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miannual technical progress reports to USA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lans yearly stakeholder meetings with support from Progra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munications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cisions made by consens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eets annually in personal and virtually as called by the Cha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90560" y="990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ESA PCC Composition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3" name="Rectangle 1"/>
          <p:cNvSpPr/>
          <p:nvPr/>
        </p:nvSpPr>
        <p:spPr>
          <a:xfrm>
            <a:off x="533520" y="1994760"/>
            <a:ext cx="761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hair: IITA Reg. Dir. for 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ct Coordinator, serves as Secretary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ct Chief Scientist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search partners: CGIAR (1, AfricaRice), yearly rot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sub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onal research organizations (1, ASARECA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NARS (1, COSTECH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and others as designa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&amp;E Lead (IFPR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ommunications Lead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AID Activity Mana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14600" y="12189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Science Advisory Group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609480" y="2743200"/>
            <a:ext cx="45720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posed memb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Maggie Gill (DFI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onsolas"/>
              </a:rPr>
              <a:t>Ken Giller (W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onsolas"/>
              </a:rPr>
              <a:t>John Dixon (ACI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runo Gerard (CIMMY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ave Harris (ICRIS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ernard van Lauwe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Reps. from CRS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AID gender specia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R chief scientists (3, ILRI/IIT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AID Activity Manager (J. Glov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37920" y="12189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USAID visit, June 17-22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7" name="TextBox 3"/>
          <p:cNvSpPr/>
          <p:nvPr/>
        </p:nvSpPr>
        <p:spPr>
          <a:xfrm>
            <a:off x="533520" y="2362320"/>
            <a:ext cx="7086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. Glover and E. Witte from DC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et with project staff in Tanz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et with USAID country mission partners, e.g. NAFAKA, SU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 ongo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et better idea of future action si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scuss alignment with MAFSC , USAID mission, other 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Picture 4" descr="C:\Users\IZeledon\Pictures\USAID visit Tanzania June 2012\DSC03480.jpg"/>
          <p:cNvPicPr/>
          <p:nvPr/>
        </p:nvPicPr>
        <p:blipFill>
          <a:blip r:embed="rId1"/>
          <a:stretch/>
        </p:blipFill>
        <p:spPr>
          <a:xfrm>
            <a:off x="4495680" y="4952880"/>
            <a:ext cx="2210040" cy="17956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C:\Users\IZeledon\Pictures\USAID visit Tanzania June 2012\DSC03486.jpg"/>
          <p:cNvPicPr/>
          <p:nvPr/>
        </p:nvPicPr>
        <p:blipFill>
          <a:blip r:embed="rId2"/>
          <a:stretch/>
        </p:blipFill>
        <p:spPr>
          <a:xfrm>
            <a:off x="1600200" y="4876920"/>
            <a:ext cx="246852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Thank you!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228600" y="636264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"/>
          <p:cNvPicPr/>
          <p:nvPr/>
        </p:nvPicPr>
        <p:blipFill>
          <a:blip r:embed="rId2"/>
          <a:stretch/>
        </p:blipFill>
        <p:spPr>
          <a:xfrm>
            <a:off x="990720" y="6324480"/>
            <a:ext cx="369720" cy="3794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C:\Users\Corporate Comms\Downloads\icrisat_logo.jpg"/>
          <p:cNvPicPr/>
          <p:nvPr/>
        </p:nvPicPr>
        <p:blipFill>
          <a:blip r:embed="rId3"/>
          <a:stretch/>
        </p:blipFill>
        <p:spPr>
          <a:xfrm>
            <a:off x="1447920" y="6324480"/>
            <a:ext cx="1143000" cy="362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C:\Users\Corporate Comms\Downloads\AfricaRice logo.png"/>
          <p:cNvPicPr/>
          <p:nvPr/>
        </p:nvPicPr>
        <p:blipFill>
          <a:blip r:embed="rId4"/>
          <a:srcRect l="0" t="0" r="73495" b="19117"/>
          <a:stretch/>
        </p:blipFill>
        <p:spPr>
          <a:xfrm>
            <a:off x="3505320" y="6248520"/>
            <a:ext cx="530280" cy="501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C:\Users\Corporate Comms\Downloads\IFPRI logo (green).jpg"/>
          <p:cNvPicPr/>
          <p:nvPr/>
        </p:nvPicPr>
        <p:blipFill>
          <a:blip r:embed="rId5"/>
          <a:stretch/>
        </p:blipFill>
        <p:spPr>
          <a:xfrm>
            <a:off x="4114800" y="6172200"/>
            <a:ext cx="322200" cy="506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9" descr="C:\Users\Corporate Comms\Downloads\AVRDC logo.jpg"/>
          <p:cNvPicPr/>
          <p:nvPr/>
        </p:nvPicPr>
        <p:blipFill>
          <a:blip r:embed="rId6"/>
          <a:stretch/>
        </p:blipFill>
        <p:spPr>
          <a:xfrm>
            <a:off x="6553080" y="6324480"/>
            <a:ext cx="1600200" cy="3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7" name="Object 6"/>
          <p:cNvGraphicFramePr/>
          <p:nvPr/>
        </p:nvGraphicFramePr>
        <p:xfrm>
          <a:off x="2666880" y="6095880"/>
          <a:ext cx="762120" cy="6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6095880"/>
                    <a:ext cx="7621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9" name="Picture 3" descr="C:\Users\izeledon\Documents\LOGOS\ciat-log.gif"/>
          <p:cNvPicPr/>
          <p:nvPr/>
        </p:nvPicPr>
        <p:blipFill>
          <a:blip r:embed="rId9"/>
          <a:stretch/>
        </p:blipFill>
        <p:spPr>
          <a:xfrm>
            <a:off x="5486400" y="6324480"/>
            <a:ext cx="990720" cy="300240"/>
          </a:xfrm>
          <a:prstGeom prst="rect">
            <a:avLst/>
          </a:prstGeom>
          <a:ln w="0">
            <a:noFill/>
          </a:ln>
        </p:spPr>
      </p:pic>
      <p:pic>
        <p:nvPicPr>
          <p:cNvPr id="620" name="il_fi" descr="http://www.goes.msu.edu/sumernet/logo/ICRAF%20logo.jpg"/>
          <p:cNvPicPr/>
          <p:nvPr/>
        </p:nvPicPr>
        <p:blipFill>
          <a:blip r:embed="rId10"/>
          <a:stretch/>
        </p:blipFill>
        <p:spPr>
          <a:xfrm>
            <a:off x="4495680" y="6172200"/>
            <a:ext cx="8431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62012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The Start</a:t>
            </a:r>
            <a:br>
              <a:rPr sz="3200"/>
            </a:br>
            <a:br>
              <a:rPr sz="32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Oct. 2011: Brain storming meeting in preparation of inception workshop, agreement  on countries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Nov./Dec. 2011: Development of Concept Notes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Feb. 2012: Inception workshop DSM, </a:t>
            </a: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decision on Program approach and name Africa RISING, </a:t>
            </a: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call for jumpstart project proposals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April 2012: Approval of  10 jumpstarts, contracts, fund disbursemen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May 2012: Office set-up and staff recruitment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Continuously:  Strategic  Program/Project documents developed, teams established</a:t>
            </a:r>
            <a:br>
              <a:rPr sz="2400"/>
            </a:br>
            <a:br>
              <a:rPr sz="2400"/>
            </a:br>
            <a:br>
              <a:rPr sz="2800"/>
            </a:br>
            <a:endParaRPr b="0" lang="en-US" sz="20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1295640" cy="12128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"/>
          <p:cNvPicPr/>
          <p:nvPr/>
        </p:nvPicPr>
        <p:blipFill>
          <a:blip r:embed="rId2"/>
          <a:stretch/>
        </p:blipFill>
        <p:spPr>
          <a:xfrm>
            <a:off x="7010280" y="3505320"/>
            <a:ext cx="12956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1278000"/>
            <a:ext cx="762012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Approved jumpstart projects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533520" y="1905120"/>
          <a:ext cx="5181480" cy="4287600"/>
        </p:xfrm>
        <a:graphic>
          <a:graphicData uri="http://schemas.openxmlformats.org/drawingml/2006/table">
            <a:tbl>
              <a:tblPr/>
              <a:tblGrid>
                <a:gridCol w="1066680"/>
                <a:gridCol w="3200400"/>
                <a:gridCol w="914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 Legume Value Chain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4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Post-harvest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RA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rgreen Agri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logue of Crop, Soil, Water Management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cotoxins in Maize and Cassa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4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Systems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RI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Multi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nsification of Farming Syste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rica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d Manag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D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ing Vegetable Value 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,9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578" name="TextBox 3"/>
          <p:cNvSpPr/>
          <p:nvPr/>
        </p:nvSpPr>
        <p:spPr>
          <a:xfrm>
            <a:off x="533520" y="6211800"/>
            <a:ext cx="746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Grant ($120k) to MSU for first 6 months of research on Agroecological Intensification in MAL and TZ through Action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Lessons learnt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0" name="TextBox 2"/>
          <p:cNvSpPr/>
          <p:nvPr/>
        </p:nvSpPr>
        <p:spPr>
          <a:xfrm>
            <a:off x="609480" y="21337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try point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- SI to build on existing policies,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aps identified to fill (technological, capacity, policies, institutions, existing data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pportunit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articipatory approaches towards integration of disciplines, evaluation of bes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bets, land us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ed systems improv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ivate sector involv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artnerships and eng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raction among research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rnal/external commun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licy maker/private sector engag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Logistics and organ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tractual issues, inadequate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97180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Research framework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2" name="TextBox 2"/>
          <p:cNvSpPr/>
          <p:nvPr/>
        </p:nvSpPr>
        <p:spPr>
          <a:xfrm>
            <a:off x="397080" y="2514600"/>
            <a:ext cx="802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neric to be applicable across all three Africa RISING reg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lexible to allow site specific adapt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st a set of hypotheses linked to research outputs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associated development outcom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743200" y="837720"/>
            <a:ext cx="41148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Selection of Action Sites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533520" y="1752480"/>
            <a:ext cx="769608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-location with USAID country mission investments/other 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presentative regarding drivers of intensification to allow for scal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up to areas with similar conditions: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pulation density, market access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agro-ecological cond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 for rigorous M&amp;E to determine impact of 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PRI: stratification/characterization of  target wards and vill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Z: Kiteto, Kongwa, Kilombero, Babati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MAL: Ntcheu, Dedza district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ZAM: Eastern Provi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6400800" y="3048120"/>
            <a:ext cx="1935000" cy="1152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"/>
          <p:cNvPicPr/>
          <p:nvPr/>
        </p:nvPicPr>
        <p:blipFill>
          <a:blip r:embed="rId2"/>
          <a:stretch/>
        </p:blipFill>
        <p:spPr>
          <a:xfrm>
            <a:off x="6553080" y="4952880"/>
            <a:ext cx="18288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Communication Strategy and Tools </a:t>
            </a:r>
            <a:r>
              <a:rPr b="0" lang="en-GB" sz="2000" spc="-1" strike="noStrike">
                <a:solidFill>
                  <a:srgbClr val="323232"/>
                </a:solidFill>
                <a:latin typeface="Cambria"/>
              </a:rPr>
              <a:t>(ILRI leadership)</a:t>
            </a:r>
            <a:br>
              <a:rPr sz="20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Calibri"/>
              </a:rPr>
              <a:t>wiki , website, repositories for docs, images, presentations </a:t>
            </a:r>
            <a:br>
              <a:rPr sz="1800"/>
            </a:br>
            <a:br>
              <a:rPr sz="1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M&amp;E Plan </a:t>
            </a:r>
            <a:r>
              <a:rPr b="0" lang="en-GB" sz="2000" spc="-1" strike="noStrike">
                <a:solidFill>
                  <a:srgbClr val="bfbfbf"/>
                </a:solidFill>
                <a:latin typeface="Cambria"/>
              </a:rPr>
              <a:t>(IFPRI leadership)</a:t>
            </a:r>
            <a:br>
              <a:rPr sz="1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Program Logframe</a:t>
            </a:r>
            <a:br>
              <a:rPr sz="2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Program Document</a:t>
            </a:r>
            <a:r>
              <a:rPr b="0" lang="en-GB" sz="2400" spc="-1" strike="noStrike">
                <a:solidFill>
                  <a:srgbClr val="bfbfbf"/>
                </a:solidFill>
                <a:latin typeface="Cambria"/>
              </a:rPr>
              <a:t>:  assembly of  all strategic documents</a:t>
            </a:r>
            <a:endParaRPr b="0" lang="en-US" sz="24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8" name="TextBox 3"/>
          <p:cNvSpPr/>
          <p:nvPr/>
        </p:nvSpPr>
        <p:spPr>
          <a:xfrm>
            <a:off x="1066680" y="3657600"/>
            <a:ext cx="469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program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purpose, objectives , outcom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guiding principles and conceptual framewo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research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log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M&amp;E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communic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management structure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-2057400" y="214956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7180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Our website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1" name="TextBox 2"/>
          <p:cNvSpPr/>
          <p:nvPr/>
        </p:nvSpPr>
        <p:spPr>
          <a:xfrm>
            <a:off x="1078920" y="41148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alibri"/>
              </a:rPr>
              <a:t>Where to share news, updates and announc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17640" y="1371600"/>
            <a:ext cx="9735840" cy="54738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0920" y="214920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Our wiki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4" name="TextBox 2"/>
          <p:cNvSpPr/>
          <p:nvPr/>
        </p:nvSpPr>
        <p:spPr>
          <a:xfrm>
            <a:off x="3733920" y="55627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alibri"/>
              </a:rPr>
              <a:t>Collaboration space to support planning, sharing early documents, reporting and organizing ev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3:43:14Z</dcterms:created>
  <dc:creator>JTOliver</dc:creator>
  <dc:description/>
  <dc:language>en-US</dc:language>
  <cp:lastModifiedBy>LeBorgne, Ewen (ILRI)</cp:lastModifiedBy>
  <cp:lastPrinted>2011-10-06T11:45:23Z</cp:lastPrinted>
  <dcterms:modified xsi:type="dcterms:W3CDTF">2012-10-05T07:56:03Z</dcterms:modified>
  <cp:revision>829</cp:revision>
  <dc:subject/>
  <dc:title>PowerPoint Presentation</dc:title>
</cp:coreProperties>
</file>